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E7B3-767B-45EB-94CB-5532C8105CB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pulling the wool over your own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understand that your practice needs to be in a state of constant change to meet the chan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of y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nderstand that the students we teach are different to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really know about the students you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ve you changed your practice in the last few years to meet needs, and if you havent’ you are ptwoy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fference are you really making to your student’s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r students really eng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ee the relevance of what happens in your classroom to their liv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8575-7583-454D-ADBF-37153D0279F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delight at the presentation mode for the daily plan and the open timetable choices now available through the facility of the interactive board.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frustration at the need for more computer time or access to computer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njoyed the option of being able to work by themselves. However some student still expressed their need to have more independent working tim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their learning was more interesting and fun.</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students felt that their learning was more useful and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pressed that they had learnt things that they would be able to use in the future for example making a PowerPoint presentation, down loading their iMovie onto the iPod.</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tudents felt that their learning and my teaching had changed in the past 5 week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4 students felt that there had been no changes to their learning or my teaching practice over the past five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felt that their suggestions had been implemented but there were 6 students who participated in the study who responded with a ‘no’ to this question saying that their suggestions had not been implemented at all.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udents felt that they were thinking more about what they were learning, why they were learning it and the relevance of their learning for their futur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said that they did not know what their future held and so they needed skills that would support them for any time in the futur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felt that there had been a slight improvement in my long explanations but suggested that I keep working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it was good to be able to tell me how they would like things to change and express their feelings. Many students expressed their pleasure in being able to express their needs and wan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 response in terms of engagement and interest in students learning.  improved student achievement,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ened level of completion of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ments to teaching practice have heightened the level of student engagement and empowered students in their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have demonstrated a high level of ability to articulate their learning needs, develop their meta cognition and make increasing correlations between their learning and the relevance of their present learning for their future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research subjects operated at varying levels, the method appeared to accommodate for these difference because students were instrumental in making choices for their learning options and embracing the differences in teaching style at their own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findings of this action research, further teacher exploration and investigation into teaching practices that are relevant, real and engaging for the 21st century may prove beneficial in the necessity to provide a learning environment that encourages engagement of independent, empowered and interested learners in our classrooms. </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delight at the presentation mode for the daily plan and the open timetable choices now available through the facility of the interactive board.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frustration at the need for more computer time or access to computer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njoyed the option of being able to work by themselves. However some student still expressed their need to have more independent working tim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their learning was more interesting and fun.</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students felt that their learning was more useful and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pressed that they had learnt things that they would be able to use in the future for example making a PowerPoint presentation, down loading their iMovie onto the iPod.</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tudents felt that their learning and my teaching had changed in the past 5 week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4 students felt that there had been no changes to their learning or my teaching practice over the past five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felt that their suggestions had been implemented but there were 6 students who participated in the study who responded with a ‘no’ to this question saying that their suggestions had not been implemented at all.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udents felt that they were thinking more about what they were learning, why they were learning it and the relevance of their learning for their futur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said that they did not know what their future held and so they needed skills that would support them for any time in the futur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felt that there had been a slight improvement in my long explanations but suggested that I keep working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it was good to be able to tell me how they would like things to change and express their feelings. Many students expressed their pleasure in being able to express their needs and wan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 response in terms of engagement and interest in students learning.  improved student achievement,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ened level of completion of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ments to teaching practice have heightened the level of student engagement and empowered students in their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have demonstrated a high level of ability to articulate their learning needs, develop their meta cognition and make increasing correlations between their learning and the relevance of their present learning for their future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research subjects operated at varying levels, the method appeared to accommodate for these difference because students were instrumental in making choices for their learning options and embracing the differences in teaching style at their own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findings of this action research, further teacher exploration and investigation into teaching practices that are relevant, real and engaging for the 21st century may prove beneficial in the necessity to provide a learning environment that encourages engagement of independent, empowered and interested learners in our classrooms. </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lows you to  influence and  make changes that produce results that show chang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you with the opportunity to work with others and to learn from the sharing of ide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you to  improve your practice to enhance student learn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ables you to begin to look at your practice and invites you to see things different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D9CE-65C2-456C-B38D-15F64ABBC92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BBI we think it’s important  understand that our teaching practice needs to be in a stat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change to meet the changing needs of 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llowing Research 2005 Generation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nderstand that the students we teach are different to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really know about the students you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ve we changed your practice in the last few years to meet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you havent’ you are ptwoy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fference are you really making to your student’s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r students really eng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ee the relevance of what happens in your classroom to their liv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engaug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 back to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1BCB-5360-4956-82DE-C7D967F35DD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t I was a 21st century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questio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weren’t happening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ctuating between the old and the new.    Professional reading and development realised that some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ed to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is to take Acti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GAGED IN ACTION RESEACH BECAUS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must be judged on how it impacts on students learning ( Huberman 1992)</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based professionalism begins with questioning our practice as teacher ( Whitehead 1989)</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 research begins with a sense that something needs doing in a particular situation Kemmis &amp; McTaggart 1988</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empowering to all participants in the educational proces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9EB7-2B82-4FD6-A432-4327467AE6E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It is a research methodology which pursues action ( or change ) and research ( understanding ) at the same time.</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In most forms it does this by using a cyclical approach which alternates between action and critical reflection</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There is continuous refining of methods,</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Intention is to improve practice within the educational experience ( Hopkins 1993)</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 conducting action research, we are guided through cyclical approach of inquiry:</a:t>
            </a:r>
            <a:endParaRPr b="0" lang="en-US" sz="600" spc="-1" strike="noStrike">
              <a:solidFill>
                <a:srgbClr val="000000"/>
              </a:solidFill>
              <a:latin typeface="Times New Roman"/>
            </a:endParaRPr>
          </a:p>
          <a:p>
            <a:pPr lvl="1" marL="685800" indent="-228600">
              <a:lnSpc>
                <a:spcPct val="80000"/>
              </a:lnSpc>
              <a:spcBef>
                <a:spcPts val="264"/>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dentification of problem area and plan the action - what is my concern, why am I concerned, what can I do in the </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ituation, what will I do, how will I show that I am influencing the situation for good, how will I produce evidence of my influence, how will I  ensure that the claims I make are reasonably fair and accurate- I had to show that I had</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improved my practice for others’ educational benefit - in order for this research to have methodological and</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epistemological rigour. Otherwise the study could be challenged as personal hearsay and opinion.</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 Implement the action</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 Record observe collect data</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 Reflection with critical colleagues or collaborative team</a:t>
            </a:r>
            <a:endParaRPr b="0" lang="en-US" sz="700" spc="-1" strike="noStrike">
              <a:solidFill>
                <a:srgbClr val="000000"/>
              </a:solidFill>
              <a:latin typeface="Times New Roman"/>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5. Use reflection to plan next phase.</a:t>
            </a:r>
            <a:endParaRPr b="0" lang="en-US" sz="7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a reflective log or journ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are drawn and emerge slowly over the course of the study - qualitative research.no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resear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aire activity.</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C634-90B4-4CA5-A218-DDACE76B842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lesson outlines and task requirements prepared on the laptop and presented through the data projector.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alked too much and that I needed to give them a chance to communicate with me and each other.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ime was too high.</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re to work in different working spaces - the library or pod area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ire to receive and send work to me via email or through our learning management system.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broken down into manageable bite, size chunks.</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a few students said that school was b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udents expressed that they could not see any connection between their learning and how it may be useful for them in the future. There were very few students who had an understanding of the ‘why’ to their learning. This was a major concern for me as their teacher.</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n interesting balance of students wanting to do more group work and those who wanted to work independ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anted to have more time to engage in deeper learning. Many students felt that we moved on from one task to another too quickly.</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indicated that they wanted to be involved in the decision making of what they were going to 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about booklets - how I conducted the Actio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ial question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with critical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of meeting - why students were learning - connections with future, nil - teacher i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ots of workshhets and board work - introduced a monitoring sheet - why included with learning int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event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minus improvements 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ome students work and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reflection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r monitoring quality of learning of students, engagement and motiv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 comple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wor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ur incide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 of learning as indicated in weekly reflec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ly task monitoring sheet for programme delive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1F321-987F-46F1-BBD7-6AC2A658F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42AB-8744-4BE9-AEE4-C12314FD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93D5F-7A70-41AD-AE8B-180339DFC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C29BC-5118-474C-B8A0-D97C6EC64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A5BEB-1A9D-45A1-B5CA-A82F602F9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C8B7D-C5B8-4F54-B447-E390985F4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A1BF0-21D5-470C-ABA0-AD9C45851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4C5AE-7035-4939-8DC7-540309671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D0F6C-92F1-4619-9BF4-B182D9E66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4A37-40EF-4507-908B-83C6273A7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71A80-5387-4CFE-9295-AD72964AB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3A4E-62C7-47C4-A667-EA7A77E7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6E1EC-CF4E-4B46-882D-8FE87B362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75E1A-7DC8-40DA-80A9-DDA54EBAC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57D62-CBB4-4724-B49F-2C1BB9A29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0B549-6CB5-49D0-AF0B-9992BB2E8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BB1D1-21E8-4E30-80CE-E8080F125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9C90-FB2F-4CAC-9B22-FF6F5FDF2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FDC2-AC38-4CF2-82CA-1E2E55C3A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89EA7-14DF-444A-A367-5B5280875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4E1E8-20E4-44D9-AD47-10210E05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7517-FC57-432C-B0B4-2179F20A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E059-94A2-4A3B-9E3A-7B52217F5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202F8-C1A0-4108-8093-B44151D60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9FEE-000C-46C2-9A91-B4595DED5311}" type="slidenum">
              <a:rPr b="0" lang="en-US" sz="1400" spc="-1" strike="noStrike">
                <a:solidFill>
                  <a:srgbClr val="ffffff"/>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3BD3-4732-4B7E-8222-F26176F67A9F}" type="slidenum">
              <a:rPr b="0" lang="en-US" sz="1400" spc="-1" strike="noStrike">
                <a:solidFill>
                  <a:srgbClr val="ffffff"/>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533520" y="1371600"/>
            <a:ext cx="815328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Are you pulling the wool</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over your own eyes?</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p:txBody>
      </p:sp>
      <p:sp>
        <p:nvSpPr>
          <p:cNvPr id="89" name=""/>
          <p:cNvSpPr/>
          <p:nvPr/>
        </p:nvSpPr>
        <p:spPr>
          <a:xfrm>
            <a:off x="4495680" y="41911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80880" y="228600"/>
            <a:ext cx="10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Summary of students’ reflections</a:t>
            </a:r>
            <a:endParaRPr b="0" lang="en-US" sz="3600" spc="-1" strike="noStrike">
              <a:solidFill>
                <a:srgbClr val="ffffff"/>
              </a:solidFill>
              <a:latin typeface="Times New Roman"/>
            </a:endParaRPr>
          </a:p>
        </p:txBody>
      </p:sp>
      <p:sp>
        <p:nvSpPr>
          <p:cNvPr id="121" name=""/>
          <p:cNvSpPr/>
          <p:nvPr/>
        </p:nvSpPr>
        <p:spPr>
          <a:xfrm>
            <a:off x="276120" y="914400"/>
            <a:ext cx="10239480" cy="611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appy with open timetable choices</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earning was more interesting and fun, useful and relevant</a:t>
            </a:r>
            <a:endParaRPr b="0" lang="en-US" sz="2000" spc="-1" strike="noStrike">
              <a:solidFill>
                <a:srgbClr val="ffffff"/>
              </a:solidFill>
              <a:latin typeface="Times New Roman"/>
            </a:endParaRPr>
          </a:p>
          <a:p>
            <a:pPr>
              <a:lnSpc>
                <a:spcPct val="10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joyed individualized learning time</a:t>
            </a:r>
            <a:endParaRPr b="0" lang="en-US" sz="2000" spc="-1" strike="noStrike">
              <a:solidFill>
                <a:srgbClr val="ffffff"/>
              </a:solidFill>
              <a:latin typeface="Times New Roman"/>
            </a:endParaRPr>
          </a:p>
          <a:p>
            <a:pPr>
              <a:lnSpc>
                <a:spcPct val="10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joyed the variety of learning spaces</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mpowered </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eightened level of engagement and completion of tasks</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ble to articulate their learning and thinking</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CT rich environment</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tudent voice heard and acknowledged</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 students felt that there had been no changes to their </a:t>
            </a:r>
            <a:endParaRPr b="0" lang="en-US" sz="20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earning or my teaching practice</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 students said  that their suggestions had not been implemented</a:t>
            </a:r>
            <a:endParaRPr b="0" lang="en-US" sz="20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0000"/>
          </a:bodyPr>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and modify practice</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w professionally</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in knowledge through professional reading</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knowledge and skills with colleagues</a:t>
            </a:r>
            <a:br>
              <a:rPr sz="2400"/>
            </a:br>
            <a:r>
              <a:rPr b="0" lang="en-US" sz="2400" spc="-1" strike="noStrike">
                <a:solidFill>
                  <a:srgbClr val="ffffff"/>
                </a:solidFill>
                <a:latin typeface="Tahoma"/>
              </a:rPr>
              <a:t>More effective communication with colleagues and students.</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owered to make informed decisions</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dges the gap between professional development and actual practice</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s ICT knowledge and integration </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going professional development and implementation</a:t>
            </a:r>
            <a:endParaRPr b="0" lang="en-US" sz="2400" spc="-1" strike="noStrike">
              <a:solidFill>
                <a:srgbClr val="ffffff"/>
              </a:solidFill>
              <a:latin typeface="Tahoma"/>
            </a:endParaRPr>
          </a:p>
        </p:txBody>
      </p:sp>
      <p:sp>
        <p:nvSpPr>
          <p:cNvPr id="123" name="PlaceHolder 2"/>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Benefits of Action Research</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80880" y="762120"/>
            <a:ext cx="8305920" cy="606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ilt into action research is the proviso that, if as a teacher I am dissatisfied with what is going on, I will have the confidence and resolution to attempt to change it. I will not be content with the status quo…”</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Jean McNif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illiterate of the 21st century will not b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cannot read and write, but thos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cannot learn, unlearn, and relearn.” </a:t>
            </a:r>
            <a:br>
              <a:rPr sz="4400"/>
            </a:br>
            <a:r>
              <a:rPr b="0" lang="en-US" sz="44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lvin Toff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228600" y="1600200"/>
            <a:ext cx="815328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Action Research at</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Bucklands Beach </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Intermediate School</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p:txBody>
      </p:sp>
      <p:sp>
        <p:nvSpPr>
          <p:cNvPr id="91" name=""/>
          <p:cNvSpPr/>
          <p:nvPr/>
        </p:nvSpPr>
        <p:spPr>
          <a:xfrm>
            <a:off x="4495680" y="41911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95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rPr>
              <a:t>Think  about how the world has changed in the last 20 years.</a:t>
            </a:r>
            <a:br>
              <a:rPr sz="4400"/>
            </a:br>
            <a:br>
              <a:rPr sz="4400"/>
            </a:br>
            <a:br>
              <a:rPr sz="4400"/>
            </a:br>
            <a:endParaRPr b="0" lang="en-US" sz="4400" spc="-1" strike="noStrike">
              <a:solidFill>
                <a:srgbClr val="ffffff"/>
              </a:solidFill>
              <a:latin typeface="Tahoma"/>
            </a:endParaRPr>
          </a:p>
        </p:txBody>
      </p:sp>
      <p:sp>
        <p:nvSpPr>
          <p:cNvPr id="93" name=""/>
          <p:cNvSpPr/>
          <p:nvPr/>
        </p:nvSpPr>
        <p:spPr>
          <a:xfrm>
            <a:off x="0" y="4114800"/>
            <a:ext cx="9067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ea typeface="ＭＳ Ｐゴシック"/>
              </a:rPr>
              <a:t>What will teaching and learning look like in the next 5, 10, 20+ yea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636560" y="1066680"/>
            <a:ext cx="3621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74"/>
                </a:solidFill>
                <a:latin typeface="Times New Roman"/>
              </a:rPr>
              <a:t>Digital Age Literacy:</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0" y="1066680"/>
            <a:ext cx="5105520" cy="6098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699480" indent="-77400">
              <a:lnSpc>
                <a:spcPct val="100000"/>
              </a:lnSpc>
              <a:spcBef>
                <a:spcPts val="1125"/>
              </a:spcBef>
              <a:buSzPct val="102812"/>
              <a:buBlip>
                <a:blip r:embed="rId2"/>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ic, Scientific and Technological Literacy</a:t>
            </a:r>
            <a:endParaRPr b="0" lang="en-US" sz="1800" spc="-1" strike="noStrike">
              <a:solidFill>
                <a:srgbClr val="ffffff"/>
              </a:solidFill>
              <a:latin typeface="Times New Roman"/>
            </a:endParaRPr>
          </a:p>
          <a:p>
            <a:pPr lvl="4" marL="699480" indent="-77400">
              <a:lnSpc>
                <a:spcPct val="100000"/>
              </a:lnSpc>
              <a:spcBef>
                <a:spcPts val="1125"/>
              </a:spcBef>
              <a:buSzPct val="102812"/>
              <a:buBlip>
                <a:blip r:embed="rId3"/>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isual and Information Literacy</a:t>
            </a:r>
            <a:endParaRPr b="0" lang="en-US" sz="1800" spc="-1" strike="noStrike">
              <a:solidFill>
                <a:srgbClr val="ffffff"/>
              </a:solidFill>
              <a:latin typeface="Times New Roman"/>
            </a:endParaRPr>
          </a:p>
          <a:p>
            <a:pPr lvl="4" marL="699480" indent="-77400">
              <a:lnSpc>
                <a:spcPct val="100000"/>
              </a:lnSpc>
              <a:spcBef>
                <a:spcPts val="1125"/>
              </a:spcBef>
              <a:buSzPct val="102812"/>
              <a:buBlip>
                <a:blip r:embed="rId4"/>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ltural Literacy and Global Awareness</a:t>
            </a:r>
            <a:endParaRPr b="0" lang="en-US" sz="1800" spc="-1" strike="noStrike">
              <a:solidFill>
                <a:srgbClr val="ffffff"/>
              </a:solidFill>
              <a:latin typeface="Times New Roman"/>
            </a:endParaRPr>
          </a:p>
          <a:p>
            <a:pPr lvl="4" marL="699480" indent="-774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
          <p:cNvSpPr/>
          <p:nvPr/>
        </p:nvSpPr>
        <p:spPr>
          <a:xfrm>
            <a:off x="4913280" y="1066680"/>
            <a:ext cx="3621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4"/>
                </a:solidFill>
                <a:latin typeface="Times New Roman"/>
              </a:rPr>
              <a:t>Inventive Thinking:</a:t>
            </a:r>
            <a:endParaRPr b="0" lang="en-US" sz="24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2057400" indent="-2286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276720" y="1447920"/>
            <a:ext cx="5181480" cy="609480"/>
          </a:xfrm>
          <a:prstGeom prst="rect">
            <a:avLst/>
          </a:prstGeom>
          <a:noFill/>
          <a:ln w="0">
            <a:noFill/>
          </a:ln>
        </p:spPr>
        <p:style>
          <a:lnRef idx="0"/>
          <a:fillRef idx="0"/>
          <a:effectRef idx="0"/>
          <a:fontRef idx="minor"/>
        </p:style>
        <p:txBody>
          <a:bodyPr lIns="90000" rIns="90000" tIns="46800" bIns="46800" anchor="t">
            <a:normAutofit fontScale="46000"/>
          </a:bodyPr>
          <a:p>
            <a:pPr lvl="4" marL="946080" indent="-105120">
              <a:lnSpc>
                <a:spcPct val="100000"/>
              </a:lnSpc>
              <a:spcBef>
                <a:spcPts val="1125"/>
              </a:spcBef>
              <a:buSzPct val="102812"/>
              <a:buBlip>
                <a:blip r:embed="rId5"/>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daptability and Managing Complexity</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6"/>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riosity, Creativity and Risk Taking</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7"/>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er Order Thinking and Sound Reasoning</a:t>
            </a:r>
            <a:endParaRPr b="0" lang="en-US" sz="1800" spc="-1" strike="noStrike">
              <a:solidFill>
                <a:srgbClr val="ffffff"/>
              </a:solidFill>
              <a:latin typeface="Times New Roman"/>
            </a:endParaRPr>
          </a:p>
        </p:txBody>
      </p:sp>
      <p:sp>
        <p:nvSpPr>
          <p:cNvPr id="98" name=""/>
          <p:cNvSpPr/>
          <p:nvPr/>
        </p:nvSpPr>
        <p:spPr>
          <a:xfrm>
            <a:off x="1371600" y="3886200"/>
            <a:ext cx="358128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4"/>
                </a:solidFill>
                <a:latin typeface="Times New Roman"/>
              </a:rPr>
              <a:t>     </a:t>
            </a:r>
            <a:r>
              <a:rPr b="1" lang="en-US" sz="2400" spc="-1" strike="noStrike">
                <a:solidFill>
                  <a:srgbClr val="010064"/>
                </a:solidFill>
                <a:latin typeface="Times New Roman"/>
              </a:rPr>
              <a:t>Effective Communication:</a:t>
            </a:r>
            <a:endParaRPr b="0" lang="en-US" sz="2400" spc="-1" strike="noStrike">
              <a:solidFill>
                <a:srgbClr val="ffffff"/>
              </a:solidFill>
              <a:latin typeface="Times New Roman"/>
            </a:endParaRPr>
          </a:p>
          <a:p>
            <a:pPr marL="288000" indent="-28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0" y="4648320"/>
            <a:ext cx="4952880" cy="609480"/>
          </a:xfrm>
          <a:prstGeom prst="rect">
            <a:avLst/>
          </a:prstGeom>
          <a:noFill/>
          <a:ln w="0">
            <a:noFill/>
          </a:ln>
        </p:spPr>
        <p:style>
          <a:lnRef idx="0"/>
          <a:fillRef idx="0"/>
          <a:effectRef idx="0"/>
          <a:fontRef idx="minor"/>
        </p:style>
        <p:txBody>
          <a:bodyPr lIns="90000" rIns="90000" tIns="46800" bIns="46800" anchor="t">
            <a:normAutofit fontScale="46000"/>
          </a:bodyPr>
          <a:p>
            <a:pPr lvl="4" marL="946080" indent="-105120">
              <a:lnSpc>
                <a:spcPct val="100000"/>
              </a:lnSpc>
              <a:spcBef>
                <a:spcPts val="1125"/>
              </a:spcBef>
              <a:buSzPct val="102812"/>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ming, Collaboration and Interpersonal Skills</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al and Social Responsibility</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10"/>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active Communication</a:t>
            </a:r>
            <a:endParaRPr b="0" lang="en-US" sz="1800" spc="-1" strike="noStrike">
              <a:solidFill>
                <a:srgbClr val="ffffff"/>
              </a:solidFill>
              <a:latin typeface="Times New Roman"/>
            </a:endParaRPr>
          </a:p>
          <a:p>
            <a:pPr lvl="4" marL="946080" indent="-10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
          <p:cNvSpPr/>
          <p:nvPr/>
        </p:nvSpPr>
        <p:spPr>
          <a:xfrm>
            <a:off x="4724280" y="4267080"/>
            <a:ext cx="41911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4"/>
                </a:solidFill>
                <a:latin typeface="Times New Roman"/>
              </a:rPr>
              <a:t>	</a:t>
            </a:r>
            <a:r>
              <a:rPr b="1" lang="en-US" sz="2400" spc="-1" strike="noStrike">
                <a:solidFill>
                  <a:srgbClr val="010064"/>
                </a:solidFill>
                <a:latin typeface="Times New Roman"/>
              </a:rPr>
              <a:t>High  Productivity:</a:t>
            </a:r>
            <a:endParaRPr b="0" lang="en-US" sz="24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429000" y="4648320"/>
            <a:ext cx="5257800" cy="609480"/>
          </a:xfrm>
          <a:prstGeom prst="rect">
            <a:avLst/>
          </a:prstGeom>
          <a:noFill/>
          <a:ln w="0">
            <a:noFill/>
          </a:ln>
        </p:spPr>
        <p:style>
          <a:lnRef idx="0"/>
          <a:fillRef idx="0"/>
          <a:effectRef idx="0"/>
          <a:fontRef idx="minor"/>
        </p:style>
        <p:txBody>
          <a:bodyPr lIns="90000" rIns="90000" tIns="46800" bIns="46800" anchor="t">
            <a:normAutofit fontScale="46000"/>
          </a:bodyPr>
          <a:p>
            <a:pPr lvl="4" marL="946080" indent="-105120">
              <a:lnSpc>
                <a:spcPct val="100000"/>
              </a:lnSpc>
              <a:spcBef>
                <a:spcPts val="1125"/>
              </a:spcBef>
              <a:buSzPct val="102812"/>
              <a:buBlip>
                <a:blip r:embed="rId11"/>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oritising, Planning and Managing Results</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12"/>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ffective Use of Real World Tools</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13"/>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 Quality, Meaningful Results</a:t>
            </a:r>
            <a:endParaRPr b="0" lang="en-US" sz="1800" spc="-1" strike="noStrike">
              <a:solidFill>
                <a:srgbClr val="ffffff"/>
              </a:solidFill>
              <a:latin typeface="Times New Roman"/>
            </a:endParaRPr>
          </a:p>
          <a:p>
            <a:pPr lvl="4" marL="946080" indent="-10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
          <p:cNvSpPr/>
          <p:nvPr/>
        </p:nvSpPr>
        <p:spPr>
          <a:xfrm>
            <a:off x="1752480" y="3657600"/>
            <a:ext cx="6324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876920" y="1143000"/>
            <a:ext cx="0" cy="5562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rot="21593400">
            <a:off x="1143000" y="609120"/>
            <a:ext cx="7924680" cy="4597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21st Century Skills</a:t>
            </a: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066680" y="762120"/>
            <a:ext cx="7543800" cy="5790960"/>
          </a:xfrm>
          <a:prstGeom prst="rect">
            <a:avLst/>
          </a:prstGeom>
          <a:solidFill>
            <a:srgbClr val="ffff00"/>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txBox="1"/>
          <p:nvPr/>
        </p:nvSpPr>
        <p:spPr>
          <a:xfrm>
            <a:off x="1371600" y="990720"/>
            <a:ext cx="3886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arc Prensky </a:t>
            </a:r>
            <a:endParaRPr b="0" lang="en-US" sz="2400" spc="1" strike="noStrike">
              <a:ln w="9360">
                <a:solidFill>
                  <a:srgbClr val="000000"/>
                </a:solidFill>
                <a:miter/>
              </a:ln>
              <a:solidFill>
                <a:srgbClr val="0000ff"/>
              </a:solidFill>
              <a:latin typeface="Arial Black"/>
              <a:ea typeface="Arial Black"/>
            </a:endParaRPr>
          </a:p>
        </p:txBody>
      </p:sp>
      <p:sp>
        <p:nvSpPr>
          <p:cNvPr id="108" name=""/>
          <p:cNvSpPr txBox="1"/>
          <p:nvPr/>
        </p:nvSpPr>
        <p:spPr>
          <a:xfrm>
            <a:off x="1295280" y="1447920"/>
            <a:ext cx="63248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effectLst>
                  <a:outerShdw dist="36147" dir="2700000" blurRad="0" rotWithShape="0">
                    <a:srgbClr val="808080"/>
                  </a:outerShdw>
                </a:effectLst>
                <a:latin typeface="Arial Black"/>
              </a:rPr>
              <a:t>Author - "Don't Bother Me Mom, I'm Learning."</a:t>
            </a:r>
            <a:endParaRPr b="0" lang="en-US" sz="2000" spc="1" strike="noStrike">
              <a:ln w="9360">
                <a:solidFill>
                  <a:srgbClr val="000000"/>
                </a:solidFill>
                <a:miter/>
              </a:ln>
              <a:solidFill>
                <a:srgbClr val="0000ff"/>
              </a:solidFill>
              <a:effectLst>
                <a:outerShdw dist="36147" dir="2700000" blurRad="0" rotWithShape="0">
                  <a:srgbClr val="808080"/>
                </a:outerShdw>
              </a:effectLst>
              <a:latin typeface="Arial Black"/>
              <a:ea typeface="Arial Black"/>
            </a:endParaRPr>
          </a:p>
        </p:txBody>
      </p:sp>
      <p:sp>
        <p:nvSpPr>
          <p:cNvPr id="109" name=""/>
          <p:cNvSpPr/>
          <p:nvPr/>
        </p:nvSpPr>
        <p:spPr>
          <a:xfrm>
            <a:off x="1523880" y="3868560"/>
            <a:ext cx="66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side school they are fully engaged by their 21st Century digital live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ducators want to have relevance in this century, it is crucial that we find ways to engage students in school."</a:t>
            </a:r>
            <a:endParaRPr b="0" lang="en-US" sz="2800" spc="-1" strike="noStrike">
              <a:solidFill>
                <a:srgbClr val="ffffff"/>
              </a:solidFill>
              <a:latin typeface="Times New Roman"/>
            </a:endParaRPr>
          </a:p>
        </p:txBody>
      </p:sp>
      <p:sp>
        <p:nvSpPr>
          <p:cNvPr id="110" name=""/>
          <p:cNvSpPr/>
          <p:nvPr/>
        </p:nvSpPr>
        <p:spPr>
          <a:xfrm>
            <a:off x="1378800" y="1857240"/>
            <a:ext cx="6924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s are stuck in the 20th Centur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have rushed into the 21st Centur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schools catch up and provide studen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relevant education?'</a:t>
            </a:r>
            <a:endParaRPr b="0" lang="en-US" sz="2800" spc="-1" strike="noStrike">
              <a:solidFill>
                <a:srgbClr val="ffffff"/>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09480" y="380880"/>
            <a:ext cx="8229600" cy="34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My question</a:t>
            </a:r>
            <a:endParaRPr b="0" lang="en-US" sz="36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s my present teaching practice relevant, engaging and empowering for the students that I taugh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uld changes to my practice improve the quality of learning for my students?</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ould I change and improve my practice?</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13" name="" descr=""/>
          <p:cNvPicPr/>
          <p:nvPr/>
        </p:nvPicPr>
        <p:blipFill>
          <a:blip r:embed="rId2"/>
          <a:stretch/>
        </p:blipFill>
        <p:spPr>
          <a:xfrm>
            <a:off x="1600200" y="3301920"/>
            <a:ext cx="5562720" cy="3403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113"/>
                                        </p:tgtEl>
                                        <p:attrNameLst>
                                          <p:attrName>style.visibility</p:attrName>
                                        </p:attrNameLst>
                                      </p:cBhvr>
                                      <p:to>
                                        <p:strVal val="visible"/>
                                      </p:to>
                                    </p:set>
                                    <p:animEffect filter="dissolve" transition="in">
                                      <p:cBhvr additive="repl">
                                        <p:cTn id="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304920"/>
            <a:ext cx="8672400" cy="322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How it is conducted</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Verdana"/>
              </a:rPr>
              <a:t>     </a:t>
            </a:r>
            <a:r>
              <a:rPr b="0" lang="en-US" sz="2400" spc="-1" strike="noStrike">
                <a:solidFill>
                  <a:srgbClr val="010199"/>
                </a:solidFill>
                <a:latin typeface="Verdana"/>
              </a:rPr>
              <a:t>It is a cycle of posing questions, planning and implementing the action,  observing and recording, </a:t>
            </a:r>
            <a:endParaRPr b="0" lang="en-US" sz="2400" spc="-1" strike="noStrike">
              <a:solidFill>
                <a:srgbClr val="ffffff"/>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Verdana"/>
              </a:rPr>
              <a:t>     </a:t>
            </a:r>
            <a:r>
              <a:rPr b="0" lang="en-US" sz="2400" spc="-1" strike="noStrike">
                <a:solidFill>
                  <a:srgbClr val="010199"/>
                </a:solidFill>
                <a:latin typeface="Verdana"/>
              </a:rPr>
              <a:t>reflecting, and deciding on a next course of ac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                </a:t>
            </a:r>
            <a:endParaRPr b="0" lang="en-US" sz="3600" spc="-1" strike="noStrike">
              <a:solidFill>
                <a:srgbClr val="ffffff"/>
              </a:solidFill>
              <a:latin typeface="Times New Roman"/>
            </a:endParaRPr>
          </a:p>
        </p:txBody>
      </p:sp>
      <p:pic>
        <p:nvPicPr>
          <p:cNvPr id="115" name="" descr=""/>
          <p:cNvPicPr/>
          <p:nvPr/>
        </p:nvPicPr>
        <p:blipFill>
          <a:blip r:embed="rId2"/>
          <a:stretch/>
        </p:blipFill>
        <p:spPr>
          <a:xfrm>
            <a:off x="1447920" y="2475000"/>
            <a:ext cx="5867280" cy="407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304920" y="304920"/>
            <a:ext cx="8305560" cy="707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The outcomes</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Verdana"/>
              </a:rPr>
              <a:t>INITIAL SURVEY </a:t>
            </a:r>
            <a:endParaRPr b="0" lang="en-US" sz="1800" spc="-1" strike="noStrike">
              <a:solidFill>
                <a:srgbClr val="ffffff"/>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Verdana"/>
              </a:rPr>
              <a:t>Students wanted their learning to be.</a:t>
            </a:r>
            <a:r>
              <a:rPr b="0" lang="en-US" sz="1800" spc="-1" strike="noStrike">
                <a:solidFill>
                  <a:srgbClr val="ffffff"/>
                </a:solidFill>
                <a:latin typeface="Verdana"/>
              </a:rPr>
              <a:t> </a:t>
            </a:r>
            <a:endParaRPr b="0" lang="en-US" sz="18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ful and fun                                     22</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esting                                          11</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levant                                             18</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asy                                                    6                                                   </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ree timetable                                     22</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oice                                                20</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 support and scaffolding            21</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st in time learning                             3</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ther aspects</a:t>
            </a:r>
            <a:r>
              <a:rPr b="0" lang="en-US" sz="1400" spc="-1" strike="noStrike">
                <a:solidFill>
                  <a:srgbClr val="010199"/>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Verdana"/>
              </a:rPr>
              <a:t>Relevant learning </a:t>
            </a:r>
            <a:br>
              <a:rPr sz="1400"/>
            </a:br>
            <a:r>
              <a:rPr b="0" lang="en-US" sz="1400" spc="-1" strike="noStrike">
                <a:solidFill>
                  <a:srgbClr val="ffffff"/>
                </a:solidFill>
                <a:latin typeface="Verdana"/>
              </a:rPr>
              <a:t>Independent learning</a:t>
            </a:r>
            <a:br>
              <a:rPr sz="1400"/>
            </a:br>
            <a:r>
              <a:rPr b="0" lang="en-US" sz="1400" spc="-1" strike="noStrike">
                <a:solidFill>
                  <a:srgbClr val="ffffff"/>
                </a:solidFill>
                <a:latin typeface="Verdana"/>
              </a:rPr>
              <a:t>Less  book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integration of IC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erence to current ev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it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17" name="Picture 6" descr="ed8"/>
          <p:cNvPicPr/>
          <p:nvPr/>
        </p:nvPicPr>
        <p:blipFill>
          <a:blip r:embed="rId2"/>
          <a:stretch/>
        </p:blipFill>
        <p:spPr>
          <a:xfrm>
            <a:off x="4724280" y="0"/>
            <a:ext cx="4419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482480" y="380880"/>
            <a:ext cx="638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How I changed my practice</a:t>
            </a:r>
            <a:endParaRPr b="0" lang="en-US" sz="3600" spc="-1" strike="noStrike">
              <a:solidFill>
                <a:srgbClr val="ffffff"/>
              </a:solidFill>
              <a:latin typeface="Times New Roman"/>
            </a:endParaRPr>
          </a:p>
        </p:txBody>
      </p:sp>
      <p:sp>
        <p:nvSpPr>
          <p:cNvPr id="119" name=""/>
          <p:cNvSpPr/>
          <p:nvPr/>
        </p:nvSpPr>
        <p:spPr>
          <a:xfrm>
            <a:off x="533520" y="1066680"/>
            <a:ext cx="800100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d weekly task monitoring sheet </a:t>
            </a:r>
            <a:endParaRPr b="0" lang="en-US" sz="2000" spc="-1" strike="noStrike">
              <a:solidFill>
                <a:srgbClr val="ffffff"/>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ion of ICT into all aspects of learning</a:t>
            </a:r>
            <a:endParaRPr b="0" lang="en-US" sz="2000" spc="-1" strike="noStrike">
              <a:solidFill>
                <a:srgbClr val="ffffff"/>
              </a:solidFill>
              <a:latin typeface="Times New Roman"/>
            </a:endParaRPr>
          </a:p>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d an open timetable for part or all of the day</a:t>
            </a:r>
            <a:endParaRPr b="0" lang="en-US" sz="2000" spc="-1" strike="noStrike">
              <a:solidFill>
                <a:srgbClr val="ffffff"/>
              </a:solidFill>
              <a:latin typeface="Times New Roman"/>
            </a:endParaRPr>
          </a:p>
          <a:p>
            <a:pPr>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choice became a high priority</a:t>
            </a:r>
            <a:endParaRPr b="0" lang="en-US" sz="2000" spc="-1" strike="noStrike">
              <a:solidFill>
                <a:srgbClr val="ffffff"/>
              </a:solidFill>
              <a:latin typeface="Times New Roman"/>
            </a:endParaRPr>
          </a:p>
          <a:p>
            <a:pPr>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ice and variety of spaces to work in and groupings</a:t>
            </a:r>
            <a:endParaRPr b="0" lang="en-US" sz="2000" spc="-1" strike="noStrike">
              <a:solidFill>
                <a:srgbClr val="ffffff"/>
              </a:solidFill>
              <a:latin typeface="Times New Roman"/>
            </a:endParaRPr>
          </a:p>
          <a:p>
            <a:pPr>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why’ in the learning intention, focus on reflection and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tacognition</a:t>
            </a:r>
            <a:endParaRPr b="0" lang="en-US" sz="2000" spc="-1" strike="noStrike">
              <a:solidFill>
                <a:srgbClr val="ffffff"/>
              </a:solidFill>
              <a:latin typeface="Times New Roman"/>
            </a:endParaRPr>
          </a:p>
          <a:p>
            <a:pPr>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ekly self-reflection of teaching techniques and strategies wi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ical colleague</a:t>
            </a:r>
            <a:endParaRPr b="0" lang="en-US" sz="2000" spc="-1" strike="noStrike">
              <a:solidFill>
                <a:srgbClr val="ffffff"/>
              </a:solidFill>
              <a:latin typeface="Times New Roman"/>
            </a:endParaRPr>
          </a:p>
          <a:p>
            <a:pPr>
              <a:lnSpc>
                <a:spcPct val="10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management</a:t>
            </a:r>
            <a:endParaRPr b="0" lang="en-US" sz="2000" spc="-1" strike="noStrike">
              <a:solidFill>
                <a:srgbClr val="ffffff"/>
              </a:solidFill>
              <a:latin typeface="Times New Roman"/>
            </a:endParaRPr>
          </a:p>
          <a:p>
            <a:pPr>
              <a:lnSpc>
                <a:spcPct val="100000"/>
              </a:lnSpc>
              <a:spcBef>
                <a:spcPts val="12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s teacher talk</a:t>
            </a:r>
            <a:endParaRPr b="0" lang="en-US" sz="2000" spc="-1" strike="noStrike">
              <a:solidFill>
                <a:srgbClr val="ffffff"/>
              </a:solidFill>
              <a:latin typeface="Times New Roman"/>
            </a:endParaRPr>
          </a:p>
          <a:p>
            <a:pPr>
              <a:lnSpc>
                <a:spcPct val="10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ekly student reflection sheets giving the students vo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19">
                                            <p:txEl>
                                              <p:pRg st="10" end="1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cp:lastModifiedBy>
  <cp:lastPrinted>2007-03-17T02:30:03Z</cp:lastPrinted>
  <dcterms:modified xsi:type="dcterms:W3CDTF">2007-06-20T22:01:30Z</dcterms:modified>
  <cp:revision>90</cp:revision>
  <dc:subject/>
  <dc:title>PowerPoint Presentation</dc:title>
</cp:coreProperties>
</file>